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13C1-9BAF-454D-B702-5D731914E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AC75-E19F-41AC-977C-50642FA7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0B60-789B-41E7-BFC3-50B1F3B7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2E6-AB77-4EFD-A93D-FF8146EE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E9F4-303A-4172-B934-26E7E019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5D36-8D6A-4C37-9E14-A4490E68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C8BF3-6D59-4720-B212-182A9E4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F9238-0EE4-46B2-B9DB-2A56835B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FBBFB-4A2F-416D-B1B1-AB82DA3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09440-D059-4209-AC83-BE36A34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4D37F-3373-4CAC-94CD-8FC95B2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3D4D9-4C47-4D86-A15F-B97315F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50330-B35F-47B7-9B02-9F73DB8E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855DF-873C-4C06-837E-9FDD48DA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0B929-CFA6-4AD7-BB87-6A0E2D7A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3FD3D-4008-401F-BBC5-BC496C37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FAB5-3A4C-4B4A-9829-40AF93F1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7E132D-4AC3-45E9-8ACA-D1F2A80E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DB0FC3-1115-41F0-8917-24982285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6B9F5D-E76B-4290-9A14-CA4340DF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0B2B9-B335-45EA-B561-7B1C3121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9D1FA4-D189-4003-9E01-4609C86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2ED6DE-C792-4E98-9123-27F15B4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9B72FD-DE69-4818-9E3B-CB4D409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C15ACE-3230-4CE4-99D6-17FF1BAB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980D4A-B251-4951-A4AD-53D3121E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7607D0-3D84-4E37-95B9-6F129169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FF91-B263-428C-BB5C-178DA3DC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52C257-0DA3-44C8-AED3-3EFFBE65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282570-BB30-466C-9E14-97AC4365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B81A7A-AFCD-4CAF-9020-561F124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AF1241-4F23-46EF-8CAE-1537D87F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5106AB-0C65-434F-AF27-72F679F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06B02-A503-45CD-A823-3908F963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6EB679-FAFC-44B3-AE57-76E7983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C65EC4-316A-4C45-9E40-DFDADB2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D2C6EE-7714-4ECA-80BD-E396014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363A4F-5833-4C77-976B-523349B3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D4B-3871-4288-B25A-EA2B229F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A59CB8-DDC3-4E1A-BD79-0A80CFEC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852966-7131-491D-AC71-9CCCA136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77B1C4-EA9E-4686-925E-C36E07C3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B5C460-9868-446B-9C01-0FA66F73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3F2C59-1DB6-4AF5-8FB4-4691F311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83E3F4-B304-4841-8D6D-73CC116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293E0D-6200-413B-B8DC-DA71F40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BFF951-7C89-447D-B2DD-6885AA48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EFFA43-5E2B-460F-A14F-49C692C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E3EBC-8F6E-45E9-A923-C7E1AA1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5E6B-C0B7-4175-95E4-0F46C89D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D67337-1B4D-4D77-BFF8-A1246C8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1B807E-1692-4F11-BE8E-B0155B9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4732CC-06ED-43A2-B933-CEE5BC4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482F6F-325C-43E9-82AE-A009D230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E8A0D8-31BA-4BE5-9382-838C01EA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4A75-8380-4D88-B754-C46F139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AD2F-5F31-47D3-92C2-F8C70424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3FE-5F3F-4AA0-8CEA-DD80E6F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6622-F4C5-4ADB-88BD-A1F02B7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D1B-9D35-47F0-A3C0-0816AFC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C457-9F50-4146-982A-28CF2D63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6BA5-65AE-430E-8B51-F12F64A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7139-3D40-4111-B6A9-16D3DA8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9DD3-E9F3-49EF-9287-11FCDE1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7EFD-78F8-49F3-824E-37C75D2F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6A72-B6D3-4DDF-8724-D66AD964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61F03-E664-4020-A3F1-F51E50C7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15372-8BD4-4E74-9C18-4268011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EF54A-7F28-4804-AA73-49B43CF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41E15-9C41-49C5-B529-849B84DF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60B59-2E1B-4BBD-9A46-A69051E3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A7EB-FE28-47A6-B18A-8E6EE58A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C9A05-0BD0-440B-937A-B8050C52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DAEEA-678C-457B-9C7F-943010C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13FE2-0477-4ED0-A621-FBD87D3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72513-6027-430A-AE53-5068157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9461D-6297-4E3A-BE58-4D47A0BD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6DD9D-604B-414C-9302-BAC5B556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1AF82-1CBC-4CB3-840A-C4F105AC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0E898-AF24-43F4-B5C3-B7B07210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7BE3C-3924-4559-B3AA-5D466703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34EF2-38C3-4E2C-9A7D-4738AFE6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F071-AC9C-4083-987D-450D8CF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5E42C-9181-4134-A211-113D75A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F0717-1BD0-4AC2-B657-8E1C1A9A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C9E58-55F8-4A1E-B68D-75C71C0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6FBD0-454A-4D84-9E47-6E05C8C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ED984-8588-4A60-BE4E-0B97700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BAA91-DD7A-4B58-A88F-EDDFAEF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A5EF1-97CF-49EB-A7F0-0EFC6A0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EE940-38AA-4191-A8F8-9A2CF14F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3E4E1-5176-4DD2-90F0-12730DE6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DF664-5699-4E6E-A177-38652713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FBC4-8276-4EBD-B3E6-7838DAD2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84D6A-CC4E-405A-9316-F6CE8C0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8BD5C-09DD-40AE-98C5-97A0F10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DB77D-C4A4-455A-90EC-8C501E7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D4A8A-8508-4E27-B954-B20F0BE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38E3E-444E-4259-8482-4CD4D9A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070FB-1916-41D0-AF2A-495563D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FAAD3-E089-4647-8A5F-0D772CF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301F1-10E3-4BA1-92FA-4739F1B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5F48F-57E2-4F10-BD9B-938FBC0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7CFD7-4176-4979-AB69-75E42DB4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B610-C312-4590-AE6C-D9453D0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B6741-6CC1-4485-AFEC-FB818406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1C607-2C4D-4A56-8A27-303885B5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CE578-FE8E-4DE8-B622-964A9E65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98D6C-5991-47FD-82A5-01A93FE5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E0A76-7306-4C15-A9AD-433F5779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15B75-F3A7-4DF3-B582-863E4A4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D6262-F19E-4B18-A3CB-0515B00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D5E0F-0ACC-4C1E-8C68-2446B300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6F93D-5630-47C7-81FF-3285B4E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A724A-36FD-461B-B4C3-7892DC7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8742-2719-49C6-9D1C-653BBE2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D145A-2A7E-496E-911A-3B70262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2263A-C342-43B4-8998-09CFDD47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459D6-7E7A-4EC7-B598-86FC7AD7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2A65C-2EB3-469B-86F3-77BBEEEC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A239E-4DD0-4968-BFDC-DF7569B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590CB-7017-4C63-A214-06F1A92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9B332-B8E8-437F-A19B-348F6672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CC79E-08E4-43A2-BF84-72093D0B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480BA-4E14-4328-B41D-F74A20D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53701-D2ED-411B-87D1-F242160E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F27C-5993-496F-A4E6-A74688B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D6104-A3CD-4997-AA4A-B1E2784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A613D-DB81-4653-A899-D815150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4BC62-BEA4-46DE-8CB3-1375A556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C76E2-802F-4554-B946-F50FEFA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0AC6E-35F6-4580-B5BD-22E731C3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AAEF3-6A9A-4234-A1AC-AA3BC51E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F89E7-0427-443E-9C22-83EFBF94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588B5-B757-4D5C-B0A7-37DC56A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A6CB9-2863-401C-8967-8F4F28A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5C11E-44DB-4D3F-8A61-9E4AE0A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D88D-8F5C-481A-BEC9-2A6D139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FF411-7B58-4E34-8653-53C6CC3B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484C7-3CCC-4E3E-8935-752137B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61DEE-E9DE-4A3D-B67F-7BE7A24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C379F-823C-4D72-BC7B-0D5CC07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29C0B-2364-46A5-91C3-46E7757A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D9C19-097A-41D2-B351-843EE392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E9FE2-A5FC-48C2-AF4A-46F65CC8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73FF6B-5962-47EC-A463-FC5133B7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41CDC-3A34-4BCC-B460-2AF6BE4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10CB4-0720-4EEC-A934-1B49BB10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50FA-C08F-4463-ACE0-32A62AF6C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EBE-03D1-4A97-8F61-1E1FE0F6E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1AB-1491-4DCB-863A-A80C5198E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8310-6EDE-4F75-B710-468EB1664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8F12-09EA-4780-B91B-ABF1734EC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958-E6A7-4672-A2C7-E6CC1B41C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EB2A-B8B4-47DD-9FBC-047BFFF06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9F9-5239-4BE6-BAD2-F02631C79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9EE0-2936-4DB7-BC19-6DD0478AD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F934-9083-4520-8AEC-6E5F828E2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3FA-31C2-4323-BF80-AC547F08D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455-9037-489D-9A8D-83BEFA820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eliverance from Error and Bigot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2339640" y="4339800"/>
            <a:ext cx="6659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ord is leading His people in order to deliver them from bo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iberation Sans Narrow"/>
              </a:rPr>
              <a:t>The Nature of Christ’s Controver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252440"/>
            <a:ext cx="806472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ince earliest times the Nature of Christ has been a matter of controversy between differe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Was He (is He) fully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Was He fully m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t is essential for our salvation to understand who Christ was and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Christ became man. He accepted the great law of heredity.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The Desire of Ages, p. 48 and p. 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Christ came to reveal the love of God. For this purpose He needed to accept the great law of heredity. 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The Desire of Ages, p.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ink what this means (Matthew</a:t>
            </a:r>
            <a:r>
              <a:rPr b="0" i="1" lang="en-US" sz="1800" spc="-1" strike="noStrike">
                <a:solidFill>
                  <a:srgbClr val="000000"/>
                </a:solidFill>
                <a:latin typeface="Liberation Sans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Abraham did his own works with Ishma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Jacob betrayed His br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Judah and Tamar’s child was the result of sensua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Rahab was a har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David committed adultery and murder. Solomon was the son of Bathsheb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Manasseh was a very godless k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What kind of nature would Jesus have with all those ancestors? Can you still accept Him as your Savior? People reject either His divinity, or His humanit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iberation Sans Narrow"/>
              </a:rPr>
              <a:t>The Failure of the Children of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082520" y="13669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n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515880" y="1871640"/>
            <a:ext cx="360216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Mingling with the Gentiles and profaning the Sabbath (Neh</a:t>
            </a:r>
            <a:r>
              <a:rPr b="0" i="1" lang="en-US" sz="2000" spc="-1" strike="noStrike">
                <a:solidFill>
                  <a:srgbClr val="000000"/>
                </a:solidFill>
                <a:latin typeface="Liberation Sans Narrow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13:18) lead to the Babylonian captiv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(PK 6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1098720" y="352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515880" y="4751280"/>
            <a:ext cx="360216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trict separation from the influences of the heat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e Sabbath Reform (DA 28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5259240" y="1150920"/>
            <a:ext cx="33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ishness perverted the commandments of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025960" y="1871640"/>
            <a:ext cx="362592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ishly appropriating God’s gifts (PK 7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Building walls (AA 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Perverting the Sabbath (DA 283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5851440" y="352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5025960" y="4751280"/>
            <a:ext cx="362592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sting down the walls of separation (Eph. 2: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howing the true meaning of the Sabbath (Mark 2:2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2"/>
          <p:cNvSpPr/>
          <p:nvPr/>
        </p:nvSpPr>
        <p:spPr>
          <a:xfrm rot="18771000">
            <a:off x="3578760" y="3810600"/>
            <a:ext cx="1682640" cy="360360"/>
          </a:xfrm>
          <a:prstGeom prst="rightArrow">
            <a:avLst>
              <a:gd name="adj1" fmla="val 50000"/>
              <a:gd name="adj2" fmla="val 124905"/>
            </a:avLst>
          </a:prstGeom>
          <a:solidFill>
            <a:srgbClr val="b2b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iberation Sans Narrow"/>
              </a:rPr>
              <a:t>SELFISH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3"/>
          <p:cNvSpPr/>
          <p:nvPr/>
        </p:nvSpPr>
        <p:spPr>
          <a:xfrm flipH="1" rot="2791800">
            <a:off x="3748680" y="3812760"/>
            <a:ext cx="1749240" cy="380880"/>
          </a:xfrm>
          <a:prstGeom prst="rightArrow">
            <a:avLst>
              <a:gd name="adj1" fmla="val 50000"/>
              <a:gd name="adj2" fmla="val 124766"/>
            </a:avLst>
          </a:prstGeom>
          <a:solidFill>
            <a:srgbClr val="b2b2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iberation Sans Narrow"/>
              </a:rPr>
              <a:t>APOSTAS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1919160" y="395928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5"/>
          <p:cNvSpPr/>
          <p:nvPr/>
        </p:nvSpPr>
        <p:spPr>
          <a:xfrm>
            <a:off x="6672240" y="395928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iberation Sans Narrow"/>
              </a:rPr>
              <a:t>Our Fail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039680" y="1500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n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50720" y="1917720"/>
            <a:ext cx="3618000" cy="137304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-sent messengers (EW 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Lack of respect for the message which comes through the messen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063800" y="35672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50720" y="4797360"/>
            <a:ext cx="361800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Gospel order: Strict separation from the influences of others (EW 124). Understanding the role of the messenger (2 Cor 4: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5276880" y="12254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ishness perverted the commandments of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5114880" y="1917720"/>
            <a:ext cx="3618000" cy="137304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inking that we alone have truth. Building walls toward others. Perverting the role of the messenge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5888160" y="35672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5114880" y="4797360"/>
            <a:ext cx="361800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sting down the walls of separation (Eph. 2: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howing the true meaning of gospel order (2 Cor. 4: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1"/>
          <p:cNvSpPr/>
          <p:nvPr/>
        </p:nvSpPr>
        <p:spPr>
          <a:xfrm rot="18772800">
            <a:off x="3556440" y="3822120"/>
            <a:ext cx="1819440" cy="360360"/>
          </a:xfrm>
          <a:prstGeom prst="rightArrow">
            <a:avLst>
              <a:gd name="adj1" fmla="val 50000"/>
              <a:gd name="adj2" fmla="val 101330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iberation Sans Narrow"/>
              </a:rPr>
              <a:t>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2"/>
          <p:cNvSpPr/>
          <p:nvPr/>
        </p:nvSpPr>
        <p:spPr>
          <a:xfrm flipH="1" rot="2682000">
            <a:off x="3827520" y="3828600"/>
            <a:ext cx="1900440" cy="360360"/>
          </a:xfrm>
          <a:prstGeom prst="rightArrow">
            <a:avLst>
              <a:gd name="adj1" fmla="val 50000"/>
              <a:gd name="adj2" fmla="val 111651"/>
            </a:avLst>
          </a:prstGeom>
          <a:solidFill>
            <a:srgbClr val="b2b2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iberation Sans Narrow"/>
              </a:rPr>
              <a:t>APOS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1890720" y="400536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6716880" y="4005360"/>
            <a:ext cx="576000" cy="718920"/>
          </a:xfrm>
          <a:prstGeom prst="downArrow">
            <a:avLst>
              <a:gd name="adj1" fmla="val 50000"/>
              <a:gd name="adj2" fmla="val 31203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iberation Sans Narrow"/>
              </a:rPr>
              <a:t>Truth Coming from an Unexpected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52200"/>
            <a:ext cx="4038480" cy="273996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txBody>
          <a:bodyPr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was an apostate theolog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wanted to say that Job’s suffering was inflicted by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intended to press his understanding (error) on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atan was tempting Job through Eliph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852200"/>
            <a:ext cx="4038480" cy="2739960"/>
          </a:xfrm>
          <a:prstGeom prst="rect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txBody>
          <a:bodyPr tIns="914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spoke the truth unwittingly. 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(MB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Other writers repeated the same truth 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(Proverbs 3:11; Hebrews 12: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What Eliphaz said is truth for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t was truth for Job, as he later found out directly from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395280" y="1266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Job 5:17-19 – Did God speak through Elipha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79280" y="4797360"/>
            <a:ext cx="87854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Eliphaz was sinful and acted very wickedly, yet the Lord used Him to reveal tr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Likewise, Christ revealed the Father in the likeness of sinful flesh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See John 3:14; The Desire of Ages</a:t>
            </a:r>
            <a:r>
              <a:rPr b="0" i="1" lang="en-US" sz="1600" spc="-1" strike="noStrike">
                <a:solidFill>
                  <a:srgbClr val="000000"/>
                </a:solidFill>
                <a:latin typeface="Liberation Sans Narro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p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Few are listening for the voice of God, and ready to accept tru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in whatever guise it may be presented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The Desire of Ages</a:t>
            </a:r>
            <a:r>
              <a:rPr b="0" i="1" lang="en-US" sz="1600" spc="-1" strike="noStrike">
                <a:solidFill>
                  <a:srgbClr val="000000"/>
                </a:solidFill>
                <a:latin typeface="Liberation Sans Narro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 p. 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iberation Sans Narrow"/>
              </a:rPr>
              <a:t>Accepting the Lord’s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n we accept truth when it is spoken by those who are not in the church, who do not know the message, who might even be enem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Balaam spoke the truth even though he wanted to curse Israel, and gave a bad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Sabbath truth was promulgated by those who had rejected the first angel’s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Pharisees spoke the truth. 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Matthew 23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People who were not with Jesus spoke the truth.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Luke 9:49-50; The Desire of Ages, p. 4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n we cultivate a generous spirit which is free from bigotry, without becoming a victim of err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We need the spirit of Christ. We need to have gospel order in the heart, not on tables of s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07:56Z</dcterms:created>
  <dc:creator>Andreas Dura</dc:creator>
  <dc:description/>
  <dc:language>en-US</dc:language>
  <cp:lastModifiedBy>Frank Zimmerman</cp:lastModifiedBy>
  <dcterms:modified xsi:type="dcterms:W3CDTF">2025-04-27T00:09:26Z</dcterms:modified>
  <cp:revision>26</cp:revision>
  <dc:subject/>
  <dc:title>Deliverance from Bigotry</dc:title>
</cp:coreProperties>
</file>